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88FA7-84DD-4E50-A36A-CE60E85CB3C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56E6F-4D7D-40F0-B7C4-2617E6AFAD7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089E1-F8E3-4F0B-9184-D195FCC7A01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4E132-6809-424C-A133-DC487A152D6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4D60A-D9D3-48AE-A607-DB611ECC844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6A097-E75D-4D5C-B3FC-EDECA61903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589DB-E9C1-4733-80AA-13914BA4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0A5C8-D647-49BF-9511-A1D9FDAB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70238-91BD-463B-BF6D-A4B33FEB1D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A34B3-7539-4FC5-8BFC-F35DA939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24982-5BDB-4F33-8C0B-CE7F97EC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0974B-5CD3-4848-A874-E7570593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D4DAC-F029-4083-AAD5-152D2030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B5531-7C58-4A0E-AC32-F337917F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65A03-1C73-4CCA-91C7-A7F1414E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0EFC3-010D-48A2-8EE2-09C7E916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4C8FC-162E-42E9-A817-D7F43769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7B6023-2283-41A2-AA47-9F90F837B127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structur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EL CICLO DEL AG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ciclo del ag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7199280" cy="324036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7"/>
          <p:cNvSpPr/>
          <p:nvPr/>
        </p:nvSpPr>
        <p:spPr>
          <a:xfrm>
            <a:off x="1800360" y="3610080"/>
            <a:ext cx="179280" cy="17928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598920" y="3610080"/>
            <a:ext cx="179280" cy="17928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5580000" y="3286080"/>
            <a:ext cx="179280" cy="17928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4319640" y="2529000"/>
            <a:ext cx="179280" cy="17928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6480000" y="2709720"/>
            <a:ext cx="179640" cy="17964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12"/>
          <p:cNvSpPr/>
          <p:nvPr/>
        </p:nvSpPr>
        <p:spPr>
          <a:xfrm>
            <a:off x="4859280" y="2889360"/>
            <a:ext cx="179280" cy="17928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5759280" y="4329000"/>
            <a:ext cx="179640" cy="17964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3025800" y="4183200"/>
            <a:ext cx="179280" cy="17928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971640" y="1557360"/>
            <a:ext cx="2195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energía solar,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 calentar la Tierra, evapora el agua superficial. El vapor de agua asciende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 el aire calien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3851280" y="1341360"/>
            <a:ext cx="22334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vapor se condensa, dando lugar a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nub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6335640" y="549360"/>
            <a:ext cx="280836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ando las gotas de agua de las nubes se hacen grandes o se congelan,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en en forma de precipitacion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4643280" y="5227560"/>
            <a:ext cx="306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agua de las precipitaciones forma corrientes superficiales que se deslizan hacia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océano o bien se infiltra formando aguas subterráne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23 CuadroTexto"/>
          <p:cNvSpPr/>
          <p:nvPr/>
        </p:nvSpPr>
        <p:spPr>
          <a:xfrm>
            <a:off x="539640" y="1628640"/>
            <a:ext cx="360360" cy="3682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24 CuadroTexto"/>
          <p:cNvSpPr/>
          <p:nvPr/>
        </p:nvSpPr>
        <p:spPr>
          <a:xfrm>
            <a:off x="3419640" y="1413000"/>
            <a:ext cx="360360" cy="3682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25 CuadroTexto"/>
          <p:cNvSpPr/>
          <p:nvPr/>
        </p:nvSpPr>
        <p:spPr>
          <a:xfrm>
            <a:off x="5940360" y="620640"/>
            <a:ext cx="360360" cy="3682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26 CuadroTexto"/>
          <p:cNvSpPr/>
          <p:nvPr/>
        </p:nvSpPr>
        <p:spPr>
          <a:xfrm>
            <a:off x="4211640" y="5516640"/>
            <a:ext cx="360360" cy="3682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ya</cp:lastModifiedBy>
  <dcterms:modified xsi:type="dcterms:W3CDTF">2011-09-01T09:19:50Z</dcterms:modified>
  <cp:revision>47</cp:revision>
  <dc:subject/>
  <dc:title>Diapositiva 1</dc:title>
</cp:coreProperties>
</file>